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1AD-A898-40F9-B80E-B8626AAC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18E-ED26-423F-B6FD-CA1D1C24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131-85D8-4AB5-8215-98A372B6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BB5-4F58-4131-83DF-DFB3ACA5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6EC9-AE4F-44C9-9313-BA8999D3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1294-8C24-4544-A320-44E7E5BE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B66D-C756-4261-B659-683FAD93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78DD-D4D6-4797-8A3E-8F802B53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B67C-580F-465B-89DA-BCBBEA2F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2593-43FF-4CB0-985E-EC385D4E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5EE9-6450-4AB6-A22D-9109B5F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C2C-3435-407B-9BCC-467C7D9B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34E7-D94C-4591-8619-CCCFC78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A45E-E19A-49C3-B00E-A0969F46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6003-6D56-43D0-A80D-582D6574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760A-7E59-4CAF-9551-F646ECCE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CF57-1F0F-4658-9523-9D1D4401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CFC-FCC4-41FB-B0E7-B056C932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24F-81EF-4C37-AEF6-CF77D5F1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A65-D451-437E-810A-C932CA25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6E5-7CA1-4B35-B625-4D98F106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6CB-323F-4AE2-94DF-E27BD134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ABE-7EC8-4858-93AE-14DA862C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88D-5692-4D18-B0F9-AD828B53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60B1-22C9-4C88-8021-3F71CCE061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A100-8426-47ED-A439-9389660489A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87692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ر بُ راعي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5410080" cy="462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ودة والرحمة تتبعان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911240" y="762120"/>
            <a:ext cx="921060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ميع أيام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5486400" cy="721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سكناي</a:t>
            </a:r>
            <a:r>
              <a:rPr b="1" lang="ar-LB" sz="85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بي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 طول الأيام.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095880" cy="11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9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14800" y="-92160"/>
            <a:ext cx="5029200" cy="1033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دّ نفسي ويهد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سبل البر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جل اسمه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862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ني ولو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لكت في وادي ظلال الـموت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686800" cy="740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أخافُ سوءاً لأنّك مع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صاكَ وعكّازك هما يعزّيانني.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0:44Z</dcterms:created>
  <dc:creator>Charbel Azar</dc:creator>
  <dc:description/>
  <dc:language>en-US</dc:language>
  <cp:lastModifiedBy>ف</cp:lastModifiedBy>
  <dcterms:modified xsi:type="dcterms:W3CDTF">2006-05-16T10:05:14Z</dcterms:modified>
  <cp:revision>8</cp:revision>
  <dc:subject/>
  <dc:title>PowerPoint Presentation</dc:title>
</cp:coreProperties>
</file>